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283-4159-40CF-9170-2891E482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F55-951D-4828-BE37-D35E1CDB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5FD-B1B0-4886-9F6E-294B44E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E3F-3CFF-4C33-B1CF-3781FAC7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6C65-442C-4B51-8495-9CE20DA3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E596-7557-4E58-A361-A0C4384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15F6-B3DB-4769-91B2-B1EFF22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DA84-B50B-453C-A375-44A1F21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94B6-9338-4AFE-8843-311A0C6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4F82-A6F2-4F9C-A689-1308A031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AD2C-DCAE-4DF2-9955-2D839F0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459-E77F-4709-9700-13D7C822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2036-BC24-44D0-B8DE-B7A3DA5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C6A-A01F-45A7-9AE4-9C14380E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5882-8847-4D2E-98A6-C83A879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FF15-DC1C-42D9-B9FA-1902C79A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D2BB-EEA7-4CEC-ACB4-789E0CA9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7576-E051-485D-A749-7C77316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C7C2-A545-4919-82FB-7755500D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033A-F904-46D2-BD3D-03F8285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FA89-9500-4E4F-905B-16B3E7EE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12C60-417C-42FA-979C-9376D029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E63-CA3F-4B90-A134-843E8137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F060-F044-4046-9677-F7C9446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A25A-00D4-46E9-8AD9-357C5EF0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CF12-CB13-49F9-ADDC-220B4B9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DD2F-38C3-4F62-8E6F-054FE12D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1E16-0D69-4614-A4B0-A489FF1D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C0AF-1065-436E-9413-C95812B1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CF3CC-CC45-4A8A-871C-897909A7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F32-EDEF-44D0-8908-82B78165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D08-2430-4DFF-9A0D-B342851F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37D-5054-4BAB-B0C2-4066D0A2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EC-8636-4154-877A-DC98DFA6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E63-CFA2-475E-83EE-170CAE2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163-5A0D-4D24-B0A9-351AE7B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C7A2-5746-4EFC-8D42-6C61DD9E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1C2D-52A9-48D2-883F-AC487C80E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6C8B-EC43-460A-93A7-55AF6E649F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comic"/>
              </a:rPr>
              <a:t>Uzbekist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556272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"/>
              </a:rPr>
              <a:t>Tyra Rob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"/>
              </a:rPr>
              <a:t>Elizabeth Ky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de Latin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de Latin"/>
              </a:rPr>
              <a:t>&lt;ancienthistory.about.com/oct/atlas/qt/climateuzbek.ht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de Latin"/>
              </a:rPr>
              <a:t>&lt;historyofcountriesoftheworld.com/uz-animals.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4267080" cy="3200400"/>
          </a:xfrm>
          <a:prstGeom prst="rect">
            <a:avLst/>
          </a:prstGeom>
          <a:ln w="76320">
            <a:solidFill>
              <a:srgbClr val="000000"/>
            </a:solidFill>
            <a:prstDash val="dashDot"/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orte"/>
              </a:rPr>
              <a:t>Land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386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Location: Central Asia, North of Afghani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Slightly larger than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Area: Total= 447,400 sq km ; Land: 425,400 sq km ; Water=22,000 sq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ff"/>
                </a:solidFill>
                <a:latin typeface="Forte"/>
              </a:rPr>
              <a:t>Land Cont…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Narrow"/>
              </a:rPr>
              <a:t>Natural Resources: Natural Gas, petroleum, coal, gold, uranium, silver, copper, lead, zinc, tungsten, and molybden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 Narrow"/>
              </a:rPr>
              <a:t>Total Renewable Water resources: 72.2 cu km (200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Haettenschweiler"/>
              </a:rPr>
              <a:t>Climate</a:t>
            </a:r>
            <a:r>
              <a:rPr b="0" lang="en-US" sz="7200" spc="-1" strike="noStrike">
                <a:solidFill>
                  <a:srgbClr val="000000"/>
                </a:solidFill>
                <a:latin typeface="Haettenschweiler"/>
              </a:rPr>
              <a:t>/ </a:t>
            </a:r>
            <a:r>
              <a:rPr b="0" lang="en-US" sz="7200" spc="-1" strike="noStrike">
                <a:solidFill>
                  <a:srgbClr val="008000"/>
                </a:solidFill>
                <a:latin typeface="Haettenschweiler"/>
              </a:rPr>
              <a:t>Veget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</a:rPr>
              <a:t>Contin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</a:rPr>
              <a:t>Hot Summers (40</a:t>
            </a:r>
            <a:r>
              <a:rPr b="0" lang="en-US" sz="2800" spc="-1" strike="noStrike">
                <a:solidFill>
                  <a:srgbClr val="333399"/>
                </a:solidFill>
                <a:latin typeface="Haettenschweiler"/>
                <a:ea typeface="Arial"/>
              </a:rPr>
              <a:t>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  <a:ea typeface="Arial"/>
              </a:rPr>
              <a:t>Cool Winters (-23°C to -40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Haettenschweiler"/>
                <a:ea typeface="Arial"/>
              </a:rPr>
              <a:t>Arid, 100-200 millimeters of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ettenschweiler"/>
              </a:rPr>
              <a:t>85%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ettenschweiler"/>
              </a:rPr>
              <a:t>13%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ettenschweiler"/>
              </a:rPr>
              <a:t>Algae, Mushrooms, Anthropoda, Round Helmints, Protozoa, an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809880"/>
            <a:ext cx="556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267080"/>
            <a:ext cx="5562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aettenschweiler"/>
              </a:rPr>
              <a:t>Carnivores : Wild Cat, Tiger, Leopard, Ca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aettenschweiler"/>
              </a:rPr>
              <a:t>Bats: Long Fingered, Giant Hoct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Haettenschwei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aettenschweiler"/>
              </a:rPr>
              <a:t>Rodents: Little Ground Squirrel, M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residential Republic (Head of State and Head of Gover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Islam Abdugan Iyevich Karimov (March 24, 1990 – Pres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opulation: 27,345,0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Life Expectancy: Male- 68 Female-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comic"/>
              </a:rPr>
              <a:t>History </a:t>
            </a: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&amp; </a:t>
            </a:r>
            <a:r>
              <a:rPr b="1" lang="en-US" sz="4800" spc="-1" strike="noStrike">
                <a:solidFill>
                  <a:srgbClr val="ffff99"/>
                </a:solidFill>
                <a:latin typeface="Credit Valley"/>
              </a:rPr>
              <a:t>Current 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Once part of the Persi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Conquered by Alexander the Great in the 4</a:t>
            </a:r>
            <a:r>
              <a:rPr b="0" lang="en-US" sz="2400" spc="-1" strike="noStrike" baseline="30000">
                <a:solidFill>
                  <a:srgbClr val="99ccff"/>
                </a:solidFill>
                <a:latin typeface="comic"/>
              </a:rPr>
              <a:t>th</a:t>
            </a: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Territory was made into the Uzbek Republic in 19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comic"/>
              </a:rPr>
              <a:t>became the independent Uzbekistan Soviet Socialist Republic in 1925</a:t>
            </a: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Credit Valle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redit Valley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Credit Valley"/>
              </a:rPr>
              <a:t>OBAMA ADMINISTRATION ADOPTING NEW VIEWS ON POSSIBLE SECURITY THREATS IN CENTRAL ASIA AND THE CAUCASUS</a:t>
            </a:r>
            <a:r>
              <a:rPr b="0" lang="en-US" sz="2400" spc="-1" strike="noStrike">
                <a:solidFill>
                  <a:srgbClr val="ffff99"/>
                </a:solidFill>
                <a:latin typeface="Credit Valley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Credit Valle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Wide Latin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Developed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Gold and Cotton are the maj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Currency: 1 Som (uzs) = 100 tiy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Age 15+ can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Literacy: total population 99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Wide Latin"/>
              </a:rPr>
              <a:t>Male: 99.6% Female: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0563200">
            <a:off x="4419720" y="2286000"/>
            <a:ext cx="3128760" cy="2092320"/>
          </a:xfrm>
          <a:prstGeom prst="rect">
            <a:avLst/>
          </a:prstGeom>
          <a:ln w="57240">
            <a:solidFill>
              <a:srgbClr val="000000"/>
            </a:solidFill>
            <a:prstDash val="dash"/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urnstown Dam"/>
              </a:rPr>
              <a:t>Cultu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Clothing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Long tunic shirt, pants and a coat. Neckline opening horizontal for men, vertical for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Food: 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Breads, noodles, rice, meat, carrots, onions, soup (fatty meats and vegetables), Green Tea, and W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Turkic (23.5 million speak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Religion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lue High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lue Highway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Blue Highway"/>
              </a:rPr>
              <a:t>: Persian, Islamic, Russian, and Temu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 rot="1065000">
            <a:off x="5943600" y="380880"/>
            <a:ext cx="2892600" cy="2386080"/>
          </a:xfrm>
          <a:prstGeom prst="rect">
            <a:avLst/>
          </a:prstGeom>
          <a:ln w="57240">
            <a:solidFill>
              <a:srgbClr val="000000"/>
            </a:solidFill>
            <a:prstDash val="dash"/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3295800" cy="2195280"/>
          </a:xfrm>
          <a:prstGeom prst="rect">
            <a:avLst/>
          </a:prstGeom>
          <a:ln w="5724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3048120" cy="2286000"/>
          </a:xfrm>
          <a:prstGeom prst="rect">
            <a:avLst/>
          </a:prstGeom>
          <a:ln w="76320">
            <a:solidFill>
              <a:srgbClr val="ffffff"/>
            </a:solidFill>
            <a:prstDash val="dash"/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95680" y="4114800"/>
            <a:ext cx="3448080" cy="2585880"/>
          </a:xfrm>
          <a:prstGeom prst="rect">
            <a:avLst/>
          </a:prstGeom>
          <a:ln w="76320">
            <a:solidFill>
              <a:srgbClr val="ffffff"/>
            </a:solidFill>
            <a:prstDash val="dash"/>
            <a:miter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4197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e3ebf1"/>
                </a:solidFill>
                <a:latin typeface="Script MT Bold"/>
              </a:rPr>
              <a:t>Places to Visi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Tashkent: largest city. Capital of Uzbekistan located in foot hills of the Tians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Bukhara: Capital of the Bukhara province.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cript MT Bold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largest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Samarkand: City famous for its central location on the Asian Silk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191360" y="1600200"/>
            <a:ext cx="1952640" cy="2600280"/>
          </a:xfrm>
          <a:prstGeom prst="rect">
            <a:avLst/>
          </a:prstGeom>
          <a:ln w="5724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1:19Z</dcterms:created>
  <dc:creator>tyracrobinson</dc:creator>
  <dc:description/>
  <dc:language>en-US</dc:language>
  <cp:lastModifiedBy>tyracrobinson</cp:lastModifiedBy>
  <dcterms:modified xsi:type="dcterms:W3CDTF">2009-02-20T17:49:46Z</dcterms:modified>
  <cp:revision>12</cp:revision>
  <dc:subject/>
  <dc:title>Uzbekistan</dc:title>
</cp:coreProperties>
</file>